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B3E-A12F-408E-81D8-D7A057FA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CA69-596E-4066-BB72-3A05518C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CC66-D4EB-4078-BE06-310CDE70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9B0-607E-40C9-9FB8-B42C290F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EA71-4A1D-4A66-9E6A-0C562B8A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E499-BFE6-4CB2-A5DC-E6D4F6E9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8E64-E326-458D-AB7A-1695A0CE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08D2-26D0-41D3-A4B9-5B331B79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19B2-7A59-432E-BAC1-8EF6F211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67E6-9ABC-4F2B-A656-C2E763F2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FFF-E4DF-4D80-AF54-77008E42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24F-DAB7-488F-AB18-0747DFEB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lonna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lonna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lonna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lonna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lonna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D556-2343-4DFF-9C1A-D84EDAA33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0574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lonna MT"/>
              </a:rPr>
              <a:t>Mental Tough</a:t>
            </a:r>
            <a:endParaRPr b="0" lang="en-US" sz="7200" spc="-1" strike="noStrike">
              <a:solidFill>
                <a:srgbClr val="ffffff"/>
              </a:solidFill>
              <a:latin typeface="Colonna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Pictures</a:t>
            </a: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791320" y="1522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791320" y="44197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04920" y="441972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200400" y="2438280"/>
            <a:ext cx="2590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Acknowledgments</a:t>
            </a: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Mrs. Rowland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Her class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Aidan Crosby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Kash Farney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Layne Tommer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Question</a:t>
            </a: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What does the way you talk to people affect how they act?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Hypothesis</a:t>
            </a: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I predict that the stricter you are the more people will listen.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Materials</a:t>
            </a: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Gym Class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Teacher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Paper/Pencil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Procedure</a:t>
            </a: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Go to P.E.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Tell Mrs. Rowland to help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She yells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Then she picks us up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Variables</a:t>
            </a: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Independent Variable-yelling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Dependent Variable- Way the teacher talks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Controlled Variable- 8th grade class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Results for Normal</a:t>
            </a: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lonna MT"/>
              </a:rPr>
              <a:t>Messing around</a:t>
            </a:r>
            <a:endParaRPr b="0" lang="en-US" sz="24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lonna MT"/>
              </a:rPr>
              <a:t>Talking while he is talking</a:t>
            </a:r>
            <a:endParaRPr b="0" lang="en-US" sz="24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lonna MT"/>
              </a:rPr>
              <a:t>He says things twice</a:t>
            </a:r>
            <a:endParaRPr b="0" lang="en-US" sz="24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lonna MT"/>
              </a:rPr>
              <a:t>Has to get strict</a:t>
            </a:r>
            <a:endParaRPr b="0" lang="en-US" sz="24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lonna MT"/>
              </a:rPr>
              <a:t>Kids leave class without permission</a:t>
            </a:r>
            <a:endParaRPr b="0" lang="en-US" sz="24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lonna MT"/>
              </a:rPr>
              <a:t>Dont pick stuff up</a:t>
            </a:r>
            <a:endParaRPr b="0" lang="en-US" sz="24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lonna MT"/>
              </a:rPr>
              <a:t>I think they were like this because he didnt enforce anything.</a:t>
            </a:r>
            <a:endParaRPr b="0" lang="en-US" sz="24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lonna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Results for Aggressive</a:t>
            </a: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Listen better 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Complain sometimes 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Act better 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No repeating 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Argue more with teacher 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I think they did this because they got mad at the teacher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My hypothesis was correct. The kids listened better. They had more physical punishment so they listened. 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6:19:48Z</dcterms:created>
  <dc:creator>STERLING  USD376</dc:creator>
  <dc:description/>
  <dc:language>en-US</dc:language>
  <cp:lastModifiedBy>USD376</cp:lastModifiedBy>
  <dcterms:modified xsi:type="dcterms:W3CDTF">2010-02-12T16:19:57Z</dcterms:modified>
  <cp:revision>6</cp:revision>
  <dc:subject/>
  <dc:title>Mental Tough</dc:title>
</cp:coreProperties>
</file>